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3CD-84C3-4871-862B-EF108E1B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CDC-37A1-4AAA-9FB8-6255BF2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85B-AB22-4B36-A0CF-C617B217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3F0-D4B4-4C46-8877-128378A1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071-6AC0-49C3-9253-EFA56FFB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F39-B44F-4AF8-889C-04CF54AD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54A-7D3B-4173-9499-979D52B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48A-BC9A-4FDB-88D0-99BBDF97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01A-5EAF-4573-B1DA-29A3852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75C-722C-48A8-93B0-36D3879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624-1CA9-4789-84B0-A139E52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116-B340-4FBC-8CC0-5428335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6103-496F-4E0C-B789-4A071B8CB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 and Licen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dical Law and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ilure to meet continuing education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erformance of duties beyond the scope of a lic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hone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viction of a fe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legation of practice of medicine to an unlicensed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– “A voluntary credentialing process whereby applicants who meet specific requirements may receive a certificat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tification by a professional organization, usually through an examination, signifies that an applicant has attained a certain level of knowledge and sk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– “A credentialing procedure whereby one’s name is listed on a register as having paid a fee and/or met certain criteria within a prof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Official authorization or approval for conforming to a specified standar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oint Commission on Accreditation of Healthcare Organizations (JCAHO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redits health care organizations that meet certain standard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ive me 3 examples of organizations that require accrediation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spitals of any type, HMOs, PPOs, Home Health services, Medical Equipment Supply companies, Nursing homes, Mental health facilities, any outpatient treatment facilities, laboratories including blood donation organization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usnews.nbcnews.com/_news/2013/03/03/17167379-nurse-refuses-to-perform-cpr-despite-911-dispatchers-plea?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ased in state licensing laws a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ets legal framework for service delivery by a specific health profession in a s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fine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rameters of practi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or a prof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imits practi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people who successfully complete specified education and/or train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stricts use of title and/or credential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license holders in the prof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Designed to provide consumer prot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One hallmark of a professional is to know the limits of one’s own professional knowledg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gal and Ethical Perspectives in Health Care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as Scope of Practic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mednews.com/article/20090309/profession/303099970/2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cfas.org/uploadedFiles/Physicians/Research_and_Publications/Update_Newsletter/v17n6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the Texas Nursing Boar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bon.texas.gov/practice/apn-scopeofpractic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llowing questions may help to clarify whether a new activity/procedure can be incorporated into an individual's scope of pract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one's professional scope of prac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statutory or regulatory law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one's education in the role and special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the Texas Nursing Boar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bon.texas.gov/practice/apn-scopeofpractic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the scope of one's recognized title or does it evolve into another advanced practice title recognized by the board requiring additional formal education and legal recogn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the Standards of Nursing Practice outlined in Board Rule 217.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evidence-based ca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reasonable and prudent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you willing to accept accountability and liability for the activity and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cen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A mandatory credentialing process established by law, usually at the state level, that grants the right to practice certain skills and endeavor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ch state offers its own examination for licensure for physician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 Som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ied heal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fessions ha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ational licensure/certification exam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apply for a licen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proof of education and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detailed work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ss an examination designed to assess knowledge and their ability to apply that knowledge and other concepts and principles important to ensure safe and effective patien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eal information about past medical history (including alcohol and drug abuse), arrests, and convi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ss of licens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oug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st 4 ways in which a medical professional might lose their license 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hysical abuse of a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adequate record 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ilure to recognize or act on common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prescription of drugs in excessive amounts or without legitimate r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mpaired ability to practice due to addiction, or physical or mental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6:17:47Z</dcterms:created>
  <dc:creator>ANITAW</dc:creator>
  <dc:description/>
  <dc:language>en-US</dc:language>
  <cp:lastModifiedBy>ANITAW</cp:lastModifiedBy>
  <dcterms:modified xsi:type="dcterms:W3CDTF">2013-04-05T13:36:00Z</dcterms:modified>
  <cp:revision>43</cp:revision>
  <dc:subject/>
  <dc:title>Slide 1</dc:title>
</cp:coreProperties>
</file>